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EE2-704F-49FA-9C30-F7A1F2CC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844-7F2A-4E11-BF44-883070C3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DCE-7F4D-4382-9AA3-D5169E15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F0A-8BDD-43AC-A1A6-564CFB9A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38FE-01D0-46E8-B7EA-03D32F18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E426-4A54-4DA8-BF68-EC41982D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4BF6-E238-4BA5-B7F0-60B5F6BB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6C33-45D8-4D2D-B601-51672EA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950F-BB85-41EE-BC81-CFCB378A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B1B9-D6CF-4B76-BFED-15DB4026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EF93-DBD5-46CB-A22B-90B2DF1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115-1DF6-4D76-BA5F-85CA4EE0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9C60-5D9D-4409-8229-E828A9E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8955-88E1-4843-930B-DE5202E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82D0-9A7E-4970-BC6A-9301C5E5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244F-30A8-4944-B858-43B5C3B9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5F61-083C-42E7-8546-510B918F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6AA-1A56-4FFF-B1BA-64780918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275-0226-4DF8-8818-FAA18EA4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293-E703-4A12-B122-D61A52E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2D5-A1DB-47FD-8B27-4F93B466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5AA-5A65-4756-9279-9273D6C7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640-16F4-43C8-B53D-84647BC3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6C9-FD5B-4D1F-8F47-B17B671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B6EB-AC91-495D-8C8A-A5E05E4F8D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553-6A08-4697-889D-60F5FA0B28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Jephthah vs.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The Ammonite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dges 10:6 - 11: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ges 82 - 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sson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Deliverer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4-1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brought back to Gilead  v4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ders of Gilead made a deal with Jephthah  v6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t was conditional  v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made him head and captain over them  v10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05740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752480"/>
            <a:ext cx="8839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negotiations with the Ammonites  v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message to the king of Amm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 you want to fight against the Israeli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’s re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took the land from us when they came out of Egypt!  Restore the land peaceab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made another appeal  v14-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never took any land from A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om, Moab and Amorites refused passage to Israel, but the Amorites (Sihon their king) started a f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had delivered the land of the Amorites into the hand of Isra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phthah cites historical precedents against them invading under these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and possess the land your god, Chemosh, gave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homsoever the Lord our God shall drive out from before us, them will we possess.”   v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has possessed this land for 300 years, why are you now trying to get the la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ill judge this day between Israel and A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did not accept his reasoning  v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spirit came upon Jephthah  v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vow  v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defeats the Ammonites v32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much given about the battle but it was a great slaughter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Vo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29-3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of the Canaani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al was their main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htoreth, Baal’s wife, their principal goddess; personification of the reproductive principle of n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htar was her Babylonian name; Astarte her Greek and Roma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alim, plural of B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htaroth, plural of Ashtore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hera was a sacred pole, cone of stone, or a tree stump, representing the godd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of the Canaani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les of Baal and Ashtoreth were usually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estesses were temple prostit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domites were male temple prostit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worship consisted in the most extravagant or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temples were the centers of 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offered children, even new-born babies as sacrifices to B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of the Canaani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, Canaanites worshipped, by immoral indulgence, as religious rite, in the presence of their god; and then, by murdering their first-born children, as a sacrifice to these same g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d become a sort of “Sodom and Gomorrah” on a national sc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wonder why God commanded Israel to exterminate the Canaanit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ed from Halley’s Bible Handbook, p. 16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Worships False Gods Aga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6-9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im, Ashtaroth, gods of Syria, gods of Zidon, gods of Moab, gods of Ammon, gods of Philistines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e the one true God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angry, God gave them over to the Philistines and the Ammonites  v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ressed 18 years  v7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focus now is on the Ammo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“Cried Unto The Lord”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10-1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, the gods (idols) were put away, they confessed their sins, and asked for deliverance  v10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eard their cry  v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gathered against Israel at Gilead  v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 in Israel asked: Who will fight against the Ammonites?  v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Ma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-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ghty man of valor (brave, courage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ileadite, son of Gilead and a har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in Mizpeh, territory of G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n from home by the legitimate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to land of Tob (East of Sea of Galil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freebooters (pir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a bold and successful captain for the people of Gilea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bout Gilead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ocky, mountainous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of Jor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 of Bas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of the Arabian plate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of Moab and A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vation: between 2,000 – 3,000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d for its balm (a fragrant and healing ointment) collected from “balm of Gilead” trees and was worth twice its weight in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16916400">
            <a:off x="3487320" y="337068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i l e a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495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86400" y="4419720"/>
            <a:ext cx="8380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22096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00600" y="2743200"/>
            <a:ext cx="1447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6094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T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360" y="1143000"/>
            <a:ext cx="198108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35812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5053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zpe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419360" y="3886200"/>
            <a:ext cx="190476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44:51Z</dcterms:created>
  <dc:creator>Frank D Vines</dc:creator>
  <dc:description/>
  <dc:language>en-US</dc:language>
  <cp:lastModifiedBy>Frank D Vines</cp:lastModifiedBy>
  <dcterms:modified xsi:type="dcterms:W3CDTF">2005-02-20T14:01:11Z</dcterms:modified>
  <cp:revision>27</cp:revision>
  <dc:subject/>
  <dc:title>Slide 1</dc:title>
</cp:coreProperties>
</file>